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2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35.png" ContentType="image/png"/>
  <Override PartName="/ppt/media/image43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4.jpeg" ContentType="image/jpeg"/>
  <Override PartName="/ppt/media/image37.png" ContentType="image/png"/>
  <Override PartName="/ppt/media/image12.jpeg" ContentType="image/jpeg"/>
  <Override PartName="/ppt/media/image13.png" ContentType="image/png"/>
  <Override PartName="/ppt/media/image11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A92D-4EB4-4C6C-981F-592A0BEB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79B-5D27-4649-9DDC-DE535912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8CC-3821-4A4C-B7EB-150D0622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7D6C-B4AB-4886-BB53-1748D740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7646-E238-400B-9FE7-84199952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812B-0107-4F3B-854D-FA649509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1BB6-01B7-465A-B8BF-AD28A0BE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6FB9-20DE-4D69-8F5E-4D977CB7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0765-B020-4E02-A901-BB1B7418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B644-4E07-416B-8ED9-C8A2F36F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520D-EEAA-4622-AB74-8E7BE737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332F-3EA5-4047-A18C-7E9EEE8C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B537-CDD5-4340-9FCA-AC71D9056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hrishiggins.com/blog/archives/images/welches_leaves_single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hyperlink" Target="http://epod.usra.edu/archive/images/egg_mass.jpg" TargetMode="External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1.trekearth.com/photos/21728/60_plant4469acorn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kevingong.com/Hiking/Images/200403ArastaderoPreserve/02x02OakTree.jpg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hyperlink" Target="http://www.lethamshank.co.uk/Gallery/gal/Crops/Misc/oat_seed.jpg" TargetMode="External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faculty.clintoncc.suny.edu/faculty/Michael.Gregory/files/Bio%20102/Bio%20102%20lectures/animal%20cells%20and%20tissues/wpeE.jpg" TargetMode="Externa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fizyka.phys.put.poznan.pl/~pieransk/Physics%20Around%20Us/Rain%20drops%2002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fizyka.phys.put.poznan.pl/~pieransk/Physics%20Around%20Us/Rain%20drops%2002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99"/>
                </a:solidFill>
                <a:latin typeface="Times New Roman"/>
              </a:rPr>
              <a:t>Living, Non-living and Dead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57150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A tu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imals breath with lungs, gills or sk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breath through lu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h breath through gi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ms breath through sk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eathe” = Respiration = exchange ga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Plants Breath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welches_leaves_sing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905120"/>
            <a:ext cx="3353040" cy="2506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04920" y="2209680"/>
            <a:ext cx="51148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nts breathe through holes in their lea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holes are called stoma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Animals G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Domestic Chicken (Gallus gallus)"/>
          <p:cNvPicPr/>
          <p:nvPr/>
        </p:nvPicPr>
        <p:blipFill>
          <a:blip r:embed="rId1"/>
          <a:stretch/>
        </p:blipFill>
        <p:spPr>
          <a:xfrm>
            <a:off x="762120" y="1676520"/>
            <a:ext cx="2009520" cy="2009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Domestic Chicken (Gallus gallus)"/>
          <p:cNvPicPr/>
          <p:nvPr/>
        </p:nvPicPr>
        <p:blipFill>
          <a:blip r:embed="rId2"/>
          <a:srcRect l="15487" t="16207" r="12631" b="15886"/>
          <a:stretch/>
        </p:blipFill>
        <p:spPr>
          <a:xfrm>
            <a:off x="2895480" y="167652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715000" y="1676520"/>
            <a:ext cx="2305080" cy="2252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rcRect l="0" t="14276" r="16094" b="27186"/>
          <a:stretch/>
        </p:blipFill>
        <p:spPr>
          <a:xfrm>
            <a:off x="2438280" y="4876920"/>
            <a:ext cx="3575160" cy="1295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6019920" y="4495680"/>
            <a:ext cx="2552760" cy="2051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Today's Earth Science Picture of the Day.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" y="4267080"/>
            <a:ext cx="2743200" cy="2173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438280" y="19051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19051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48769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48006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167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5791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dp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012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Plants G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943280"/>
            <a:ext cx="2438280" cy="1838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1676520"/>
            <a:ext cx="3581640" cy="2387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Oak Sapling"/>
          <p:cNvPicPr/>
          <p:nvPr/>
        </p:nvPicPr>
        <p:blipFill>
          <a:blip r:embed="rId5"/>
          <a:stretch/>
        </p:blipFill>
        <p:spPr>
          <a:xfrm>
            <a:off x="3429000" y="1676520"/>
            <a:ext cx="1581120" cy="2381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14400" y="42670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Oat Seed"/>
          <p:cNvPicPr/>
          <p:nvPr/>
        </p:nvPicPr>
        <p:blipFill>
          <a:blip r:embed="rId8"/>
          <a:stretch/>
        </p:blipFill>
        <p:spPr>
          <a:xfrm>
            <a:off x="3352680" y="4495680"/>
            <a:ext cx="147816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5105520" y="4419720"/>
            <a:ext cx="2133360" cy="1946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05740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581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3581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5867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59436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grow by making cells bigger; some things grow by adding cell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mals grow by adding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ts grow by adding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Living things Reprod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354480" cy="2982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400800" y="1523880"/>
            <a:ext cx="2011320" cy="3017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733920" y="3581280"/>
            <a:ext cx="287640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produce is to make bab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ls reproduce sexu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xually needs a partner (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lants and cells reproduce asexu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exually means alone (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Ada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714840" cy="2571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19720" y="2438280"/>
            <a:ext cx="4140000" cy="3103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38080" y="4343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bb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5562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dapt is to ch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bbit adapts to the snow by being white.  It also has padded f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sh adapts to the water by breathing with gills.  It also has fins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adapt to temperature by changing clot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ill identify the characteristics of living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4114800" cy="2309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wpeE.jpg (87659 bytes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981080"/>
            <a:ext cx="4038480" cy="3019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9072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5181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s are the smallest living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living things are made of c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different kinds of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t c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mal c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teria c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s can only come from other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Dead th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rebuchet MS"/>
                <a:ea typeface="Times New Roman"/>
              </a:rPr>
              <a:t>Were once a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rebuchet MS"/>
                <a:ea typeface="Times New Roman"/>
              </a:rPr>
              <a:t>Do not have the characteristics of lif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rebuchet MS"/>
                <a:ea typeface="Times New Roman"/>
              </a:rPr>
              <a:t>Non-living th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rebuchet MS"/>
                <a:ea typeface="Times New Roman"/>
              </a:rPr>
              <a:t>Were never alive or went through a process to become non-l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Rain drops 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3886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33520" y="32004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6477120" y="312408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85800" y="6095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6172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5486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S this ALIVE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Minnesota State Flower - Pink &amp; White Showy Lady Slipper"/>
          <p:cNvPicPr/>
          <p:nvPr/>
        </p:nvPicPr>
        <p:blipFill>
          <a:blip r:embed="rId1"/>
          <a:stretch/>
        </p:blipFill>
        <p:spPr>
          <a:xfrm>
            <a:off x="3048120" y="1676520"/>
            <a:ext cx="2857320" cy="42861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048120" y="6172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y lady sli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S this AL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666880" y="2286000"/>
            <a:ext cx="3333960" cy="33336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d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S this AL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Ice splashes from black-streaked glacier into Alaskan waters"/>
          <p:cNvPicPr/>
          <p:nvPr/>
        </p:nvPicPr>
        <p:blipFill>
          <a:blip r:embed="rId1"/>
          <a:stretch/>
        </p:blipFill>
        <p:spPr>
          <a:xfrm>
            <a:off x="2057400" y="2057400"/>
            <a:ext cx="4876920" cy="3317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048120" y="54864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S this AL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4410360" cy="3305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962520" y="5562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S this AL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66" name="" descr="Chains of nearly-spherical bacteria"/>
          <p:cNvPicPr/>
          <p:nvPr/>
        </p:nvPicPr>
        <p:blipFill>
          <a:blip r:embed="rId1"/>
          <a:stretch/>
        </p:blipFill>
        <p:spPr>
          <a:xfrm>
            <a:off x="1828800" y="2286000"/>
            <a:ext cx="5181480" cy="3306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124080" y="56386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S this AL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4724280" cy="3546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124080" y="57150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ing is BIO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” means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living is ABIOT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” means with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S this AL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4114800" cy="3409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124080" y="55627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S this AL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3610080" cy="4286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048120" y="6172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S this AL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Digi Calculator"/>
          <p:cNvPicPr/>
          <p:nvPr/>
        </p:nvPicPr>
        <p:blipFill>
          <a:blip r:embed="rId1"/>
          <a:stretch/>
        </p:blipFill>
        <p:spPr>
          <a:xfrm>
            <a:off x="2362320" y="2286000"/>
            <a:ext cx="4724280" cy="3652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048120" y="5791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the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ioti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hings in this picture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the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ioti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hings in this pict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01064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440" y="838080"/>
            <a:ext cx="79246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characteristics of lif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difference between biotic and abiotic thing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5 things you see in the classroom that are biot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5 things you see in the classroom that are abiot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Living thing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at = metabo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reathe = respi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odu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ade of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Animals Ea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1863720" cy="19206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4695840" y="31721400"/>
            <a:ext cx="463680" cy="5965920"/>
            <a:chOff x="4695840" y="31721400"/>
            <a:chExt cx="463680" cy="5965920"/>
          </a:xfrm>
        </p:grpSpPr>
        <p:grpSp>
          <p:nvGrpSpPr>
            <p:cNvPr id="53" name=""/>
            <p:cNvGrpSpPr/>
            <p:nvPr/>
          </p:nvGrpSpPr>
          <p:grpSpPr>
            <a:xfrm>
              <a:off x="4699080" y="31724640"/>
              <a:ext cx="457200" cy="5959440"/>
              <a:chOff x="4699080" y="31724640"/>
              <a:chExt cx="457200" cy="5959440"/>
            </a:xfrm>
          </p:grpSpPr>
          <p:sp>
            <p:nvSpPr>
              <p:cNvPr id="54" name=""/>
              <p:cNvSpPr/>
              <p:nvPr/>
            </p:nvSpPr>
            <p:spPr>
              <a:xfrm>
                <a:off x="4699080" y="31724640"/>
                <a:ext cx="457200" cy="595944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36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99080" y="31724640"/>
                <a:ext cx="457200" cy="5959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4695840" y="31721400"/>
              <a:ext cx="463680" cy="5965920"/>
            </a:xfrm>
            <a:prstGeom prst="rect">
              <a:avLst/>
            </a:prstGeom>
            <a:noFill/>
            <a:ln w="7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67200" y="31770720"/>
            <a:ext cx="3921120" cy="5737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2793960" cy="4087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809880" y="40384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6095880" y="1828800"/>
            <a:ext cx="226404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248520" y="5410080"/>
            <a:ext cx="1638360" cy="11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rs eat f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rs are carn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rnivores eat me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ws eat h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ws are herb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rbivores eat pla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2193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cks eat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cks are para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asites live off hos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humans eat plants and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s are omniv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mnivores eat both plants and anim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Plants ea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819160" cy="2819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98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Rain drops 0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905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895480" y="31240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ts “eat” sun, water and di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t has minerals and g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Animals Breath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3151080" cy="297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21303" t="0" r="0" b="0"/>
          <a:stretch/>
        </p:blipFill>
        <p:spPr>
          <a:xfrm>
            <a:off x="5105520" y="2057400"/>
            <a:ext cx="3097080" cy="2619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rcRect l="10806" t="34251" r="5546" b="18571"/>
          <a:stretch/>
        </p:blipFill>
        <p:spPr>
          <a:xfrm>
            <a:off x="2362320" y="4648320"/>
            <a:ext cx="4724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0:43:38Z</dcterms:created>
  <dc:creator>sada</dc:creator>
  <dc:description/>
  <dc:language>en-US</dc:language>
  <cp:lastModifiedBy>SGANSK</cp:lastModifiedBy>
  <dcterms:modified xsi:type="dcterms:W3CDTF">2009-09-10T20:09:52Z</dcterms:modified>
  <cp:revision>18</cp:revision>
  <dc:subject/>
  <dc:title>Living, Non-living and Dead</dc:title>
</cp:coreProperties>
</file>